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FC5-976E-4CC0-9BD1-478FC699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1F2-D78E-4D02-83BF-F974A5CD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0D7-B6DB-4D6C-92CA-9184BE41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C40-FE9E-4973-AE3E-CF5A4BD8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1DF-EC83-4B25-A7FC-FECE2528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145-1D48-4E56-BEBE-B6644F4D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023-33D5-496B-8986-E46F27E7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C33-9075-42A7-B1C5-5B64A93E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418-6B45-4DB3-8CC9-E9D81F43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CD0-B3B7-4A3A-BF12-C1B26A31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710-F52F-413A-A629-B511DF53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CC7-5695-47A1-84C7-54D52803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F3CE-EC68-45EC-8F94-05E8B8E05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uschgardens.org/animal-info/info-books/killer-whale/images/pic-reproduction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hyperlink" Target="http://search.hp.my.aol.com/aol/imageDetails?s_it=imageDetails&amp;query=red+blood+cell&amp;img=http%3A%2F%2Fwww.fi.edu%2Flearn%2Fheart%2Fblood%2Fimages%2Fred-blood-cells.jpg&amp;site=&amp;host=http%3A%2F%2Fwww.fi.edu%2Flearn%2Fheart%2Fblood%2Fred.html&amp;width=124&amp;height=84&amp;thumbUrl=http%3A%2F%2Fimages-partners-tbn.google.com%2Fimages%3Fq%3Dtbn%3AUP_fxmIQfl-SdM%3Awww.fi.edu%2Flearn%2Fheart%2Fblood%2Fimages%2Fred-blood-cells.jpg&amp;b=image%3Fs_it%3Dtopsearchbox.image%26imgsz%3D%26query%3Dred%2Bblood%2Bcell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j0332364"/>
          <p:cNvPicPr/>
          <p:nvPr/>
        </p:nvPicPr>
        <p:blipFill>
          <a:blip r:embed="rId1"/>
          <a:stretch/>
        </p:blipFill>
        <p:spPr>
          <a:xfrm>
            <a:off x="0" y="3051000"/>
            <a:ext cx="4724280" cy="3807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8"/>
          <p:cNvSpPr/>
          <p:nvPr/>
        </p:nvSpPr>
        <p:spPr>
          <a:xfrm>
            <a:off x="2819520" y="762120"/>
            <a:ext cx="5943600" cy="2438280"/>
          </a:xfrm>
          <a:prstGeom prst="wedgeRoundRectCallout">
            <a:avLst>
              <a:gd name="adj1" fmla="val -35842"/>
              <a:gd name="adj2" fmla="val 71157"/>
              <a:gd name="adj3" fmla="val 16667"/>
            </a:avLst>
          </a:prstGeom>
          <a:gradFill rotWithShape="0">
            <a:gsLst>
              <a:gs pos="0">
                <a:srgbClr val="808080"/>
              </a:gs>
              <a:gs pos="50000">
                <a:srgbClr val="dbdbdb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acteristics of Life Warm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19520" y="8380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your book or not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as many of the 8 characteristics of life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865040" y="5904000"/>
            <a:ext cx="40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: Record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warm u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Life p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066680" y="15238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at the pictures depict the eight levels of characteri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pic-reproduc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905120"/>
            <a:ext cx="1942920" cy="2354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DNA STM"/>
          <p:cNvPicPr/>
          <p:nvPr/>
        </p:nvPicPr>
        <p:blipFill>
          <a:blip r:embed="rId3"/>
          <a:srcRect l="0" t="0" r="22606" b="0"/>
          <a:stretch/>
        </p:blipFill>
        <p:spPr>
          <a:xfrm>
            <a:off x="2209680" y="1905120"/>
            <a:ext cx="1981440" cy="235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4"/>
          <a:stretch/>
        </p:blipFill>
        <p:spPr>
          <a:xfrm>
            <a:off x="6095880" y="2133720"/>
            <a:ext cx="287676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"/>
          <p:cNvPicPr/>
          <p:nvPr/>
        </p:nvPicPr>
        <p:blipFill>
          <a:blip r:embed="rId5"/>
          <a:stretch/>
        </p:blipFill>
        <p:spPr>
          <a:xfrm>
            <a:off x="4267080" y="2133720"/>
            <a:ext cx="284508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6"/>
          <a:stretch/>
        </p:blipFill>
        <p:spPr>
          <a:xfrm>
            <a:off x="0" y="4419720"/>
            <a:ext cx="2133720" cy="1990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7"/>
          <a:stretch/>
        </p:blipFill>
        <p:spPr>
          <a:xfrm>
            <a:off x="2209680" y="4419720"/>
            <a:ext cx="2922840" cy="192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Red blood cells are red only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45120" y="-8967960"/>
            <a:ext cx="1180800" cy="80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ed blood cells are red only"/>
          <p:cNvPicPr/>
          <p:nvPr/>
        </p:nvPicPr>
        <p:blipFill>
          <a:blip r:embed="rId10"/>
          <a:stretch/>
        </p:blipFill>
        <p:spPr>
          <a:xfrm>
            <a:off x="4245120" y="-8967960"/>
            <a:ext cx="1180800" cy="8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11"/>
          <a:stretch/>
        </p:blipFill>
        <p:spPr>
          <a:xfrm>
            <a:off x="5257800" y="5029200"/>
            <a:ext cx="1968480" cy="133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http://images-partners-tbn.google.com/images?q=tbn:v7uPTRo1b_VENM:rlv.zcache.com/evoultion_cat_we_believe_funny_cat_lovers_postcard-p239905794382569663td81_210.jpg"/>
          <p:cNvPicPr/>
          <p:nvPr/>
        </p:nvPicPr>
        <p:blipFill>
          <a:blip r:embed="rId12"/>
          <a:stretch/>
        </p:blipFill>
        <p:spPr>
          <a:xfrm>
            <a:off x="7238880" y="4648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http://images-partners-tbn.google.com/images?q=tbn:N9y_u2I1G8rwmM:www.bcscience.com/bc8/images/0_quiz_cat_play.jpg"/>
          <p:cNvPicPr/>
          <p:nvPr/>
        </p:nvPicPr>
        <p:blipFill>
          <a:blip r:embed="rId13"/>
          <a:stretch/>
        </p:blipFill>
        <p:spPr>
          <a:xfrm>
            <a:off x="0" y="0"/>
            <a:ext cx="1447920" cy="1373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228600" y="685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45720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22860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640080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0" y="4572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514600" y="4648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6553080" y="5715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7543800" y="5105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2:18:31Z</dcterms:created>
  <dc:creator>Sussex County Public Schools</dc:creator>
  <dc:description/>
  <dc:language>en-US</dc:language>
  <cp:lastModifiedBy>LaKeshia Ellis </cp:lastModifiedBy>
  <dcterms:modified xsi:type="dcterms:W3CDTF">2009-09-11T18:17:59Z</dcterms:modified>
  <cp:revision>7</cp:revision>
  <dc:subject/>
  <dc:title>Characteristics of Life Warm-Up</dc:title>
</cp:coreProperties>
</file>